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2128680"/>
            <a:ext cx="11733120" cy="668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3492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68796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07028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marL="14526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65160" y="1320480"/>
            <a:ext cx="11074320" cy="71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36576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72000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11996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marL="151992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marL="192024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marL="192024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marL="192024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0" y="2128680"/>
            <a:ext cx="11733120" cy="66852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3492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68796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07028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marL="14526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65160" y="2476440"/>
            <a:ext cx="1107432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65160" y="5384880"/>
            <a:ext cx="1107432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2923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57600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89604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21608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2923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57600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89604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21608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1028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2923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57600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89604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21608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0" y="2128680"/>
            <a:ext cx="11733120" cy="6685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5160" y="3416400"/>
            <a:ext cx="1107432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34920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68796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107028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45260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83492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83492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83492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1440" y="6716880"/>
            <a:ext cx="11712600" cy="6858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65160" y="6477120"/>
            <a:ext cx="1107432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65160" y="8292600"/>
            <a:ext cx="110743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1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2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3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4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5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6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yaccess.com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Log in:</a:t>
            </a:r>
            <a:br>
              <a:rPr sz="6400"/>
            </a:br>
            <a:r>
              <a:rPr b="0" lang="en-US" sz="6400" spc="-1" strike="noStrike" u="sng">
                <a:solidFill>
                  <a:srgbClr val="009999"/>
                </a:solidFill>
                <a:uFillTx/>
                <a:latin typeface="Gill Sans"/>
                <a:ea typeface="ヒラギノ角ゴ ProN W3"/>
                <a:hlinkClick r:id="rId2"/>
              </a:rPr>
              <a:t>www.myaccess.com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0" y="2374920"/>
            <a:ext cx="13004640" cy="985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assignment set up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-584280" y="2716200"/>
            <a:ext cx="13563720" cy="756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assignment feedback options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380880" y="2690640"/>
            <a:ext cx="12514320" cy="698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adding writing tools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380880" y="2924280"/>
            <a:ext cx="12230280" cy="68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teacher homepage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31680" y="2855880"/>
            <a:ext cx="129920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ass progress page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919080" y="1824120"/>
            <a:ext cx="11087280" cy="825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ass rosters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-160200" y="2828880"/>
            <a:ext cx="14147640" cy="600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selecting classes/options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22320" y="3083040"/>
            <a:ext cx="12737880" cy="54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student assignment display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-325440" y="2882880"/>
            <a:ext cx="13655520" cy="787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sample ss/la writing promp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241200" y="2895480"/>
            <a:ext cx="12814560" cy="774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65160" y="457200"/>
            <a:ext cx="1107432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Teacher prompt resource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65160" y="5384880"/>
            <a:ext cx="1107432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444600" y="3276720"/>
            <a:ext cx="12814200" cy="77468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1487880" y="892440"/>
            <a:ext cx="1001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cd9c"/>
                </a:solidFill>
                <a:latin typeface="Gill Sans"/>
                <a:ea typeface="Gill Sans"/>
              </a:rPr>
              <a:t>SELECTING STUDENT WRITING PROMPT</a:t>
            </a:r>
            <a:endParaRPr b="0" lang="en-US" sz="42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teacher assignment wizard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396720" y="2817720"/>
            <a:ext cx="11854080" cy="661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